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41D710CC-3228-4307-AB78-CC02E7C47F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6D6EEC8-B845-4394-A17B-5AAF20767F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5C806A2-48AC-4557-815E-01A05D03D8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549D685-7641-4369-9D68-0497910D57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C2B5D3D-CC1E-4F31-9441-FA36F99EB1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30BC573-B3AB-4A12-93AD-D9934F3C9F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39BAD2C-2714-4D8A-8263-AD2DAF2140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4C2F09F-AD2C-4A45-92FB-79CBF4C16F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F9A1B86-82AA-4D62-8857-E2BF81B421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42D697BF-5D2E-4D55-B798-829DF6C78D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3A41B403-A085-433B-A072-BC578D85AA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34F6E88D-D478-4667-9EF8-9687F7838CE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308DA958-52A2-4EFB-BA5E-A437F0512F9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D5DE872-1577-4D40-B90C-7181DA8F3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EE86093-F8A8-4C6A-AFC1-C64DFDBBA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478F649-0D78-48D7-8FEF-A03B64802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976CCC4-34ED-4B67-A19A-D00159E7C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24F9CE8-601E-4094-A51B-026115423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1BD2B96-4DFE-45D2-BBFE-FA917D5A3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7E5744-D148-42FC-8995-9DE1D2105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4667329-C789-4B5E-8A00-C4E284BCD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38B44B6-5E75-4224-9196-6847B95E2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F738D62-30C4-4967-998D-0E4D19DD2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BD759C0-C6DE-46C5-A43A-E71096248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B8698A7-FA92-4DA1-90AE-FCEFA620C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7EDE762-8C23-4D09-8D52-65A78EFED7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65A29E-EF4D-40C1-B12A-AA000648C2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56A170-0750-4CF1-81EE-29562229DF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810B85-2C51-4C4D-8699-0856AA7749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D97F07-0253-40AB-A502-CEE6DCC865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F3266E-6715-43BC-B7E7-DB6EB1DAB9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B2DEE99-CE60-4A06-B714-1C9F163AE9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A9B049-A8D5-4E06-B35A-29DDEA1356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2284DC-3E38-4A59-B371-8D2F5A3FB8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0E680E-387A-4D90-AB0E-4A1C5A158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7F3BE-882C-43A5-928F-6BD6C4C618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5A655E-F3BC-46BE-A306-93A8D04569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BFB5BC-2F24-4FEA-9B90-51C2CE2D5B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4924A7-EBA8-4ABB-B5C4-1AB55D2F68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68DBF08-D677-45A1-85D0-2FE4325803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0C7E792-A3D1-408B-81B8-4D2FFC47CA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0F2BB2E-AA88-48B2-9B0E-CBB4118D74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89E46FB-FA1A-4D19-A031-A6D345EB52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755F702-6F6B-463D-8361-9276651680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213B3C9-3ED4-4AD4-B5C9-213B462EEA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3944A80-6B1E-4CEB-80D8-907B594A88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6B1AAF8-31A5-4889-8237-E5C2074541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3FFC2F5-7920-4E10-9EF7-2B824AEE7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D8CCE1F-5745-4F28-B0CB-6CCAC08DAB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132DE48-81B1-4D4D-B52B-8F0CDABE48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317F0A1-1429-44F4-9AE0-CF0249E0BA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41552CF-937B-4797-A090-8F01307B21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485D93-3CFB-4C99-9550-8C81004D75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CC43182-275F-44A4-B671-EDE9BF9AF7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516452-128A-46D0-84E6-75FBD8C1AF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958E44-922C-4E31-B7A2-8AFA21A9D8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CD5B76-C0CB-48CF-9708-EF79498000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8313F2-8DED-4827-9F5E-A6E1DCBE2C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98C1A8-6B52-4DD9-98EE-2D465CB77C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88856A-6394-4E33-B55B-820EFF6E5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8F980D-6CAC-458D-9410-885E7BF102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3873ED-69CD-4B14-90E6-FD356746D1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E4B715-6B5A-404B-AE45-90439C1327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AA2069-0847-4C51-A17E-D328CDE80E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1FC71EB-FCFA-457A-BFF2-2ED96EE00E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D97D56-191F-4C69-AA1A-8BCE301BE3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4A0C3D-5FFF-41D0-A8C8-6494A4A67D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8A16F0-27EB-49B6-8E04-31E59800A4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C86DEC-AB99-4E80-96C5-4E84C1091E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DE0F14-FB13-43ED-8842-91858509EA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C82791-57BC-4676-8363-9FBD560687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E149CB-3CDC-4A3A-9633-CFA7DE69BA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764801-CBD7-4FF3-B745-8711CDE54B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236116-4A3D-42B2-BEC0-57F10948FC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D04551-12ED-483A-B388-4052E38C1A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897FC4E-EC18-4E74-98F8-92EFC7DABF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99E691-D362-4EC5-88E1-F13B4013C9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DCAA0C-9B67-48EC-B6EA-4EFA6B7A07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251B4A-9D85-4581-B5AB-858B960326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C53AE3-1A5D-4F27-8ECA-D58F8DF514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6143A7-55CE-4201-B817-D247441074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308E50-0FC2-41EB-AAF4-48FB1A9134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45890B-0B6A-4DFB-AEF7-BC0EC3B6DD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5A9773-4C06-4A32-A663-665B03B1C9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B2DD10-8FB6-4C54-9BE3-7F450BEEF8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086FE9-1FF8-4C45-8ACA-5B4A44C90C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DF12750-F01C-4F1F-BF62-51A2D6C56F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68A265-9EC5-449D-A9A3-D4BA12B5BA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D2E61D-6AA3-49C5-9D56-DE6FCC266F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3D2FF8-E3ED-40FB-B14E-2F0ACCDC3A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04CB0C-DE93-41BB-8724-26F5017C20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E76214-70BC-45DB-B712-1741D62AE4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50D70027-40EC-4CB3-88BB-088BEA7852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B2D91FD-42AF-44E0-89BD-E90C87B1E4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AE45A916-8301-4818-B95F-37F1F979B8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28003BA-5621-4265-9DA1-1F27B00A2D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3110BA2-5FBD-4EF4-B011-A67AC5E043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3B53BBA-BEFC-4CFC-BAC4-DB20CEB5C5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22A73EA-E836-4BDA-8B84-F92D7A9186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B794A43-E456-405E-BA14-E7B2439848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9602CFE-C101-44B3-8B95-D4723B18FC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42FDBDC-7B4B-48F3-9A04-937555E66F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D2A7D47-4E58-40DC-B8DA-B09797799A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3103ED1C-ECEF-40EA-81A0-8765BBAA32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61B492DF-8D76-44EF-8A1B-5209158B2B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59E6E854-29E8-4AA1-97FC-25435FB940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05E88FB-FF87-4886-B1B5-19B9599C81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E87C65A-EAFC-4217-8C56-57FB95FAFBD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4565-8F9F-4023-9F36-42651FC119E5}"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8EED-BB3C-462F-B871-5832A894A56D}"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1F1E-394C-4873-BF75-2084ED98CE66}"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86B43-E571-4374-B348-02F757FC9EE3}"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3839-1522-416C-A598-A88BA952EEAD}"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A1C1-B05B-452A-B009-94C40494446F}"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B434-988B-4FE7-9FC5-24BD175FFD7D}"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8C77-53A2-4817-892D-5B7D132EF49F}"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DFBB-861D-49C6-ABFD-44874A4AF215}"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4" name="Title 1" descr=""/>
          <p:cNvPicPr/>
          <p:nvPr/>
        </p:nvPicPr>
        <p:blipFill>
          <a:blip r:embed="rId2"/>
          <a:stretch/>
        </p:blipFill>
        <p:spPr>
          <a:xfrm>
            <a:off x="457200" y="378000"/>
            <a:ext cx="8607600" cy="2242800"/>
          </a:xfrm>
          <a:prstGeom prst="rect">
            <a:avLst/>
          </a:prstGeom>
          <a:ln w="0">
            <a:noFill/>
          </a:ln>
        </p:spPr>
      </p:pic>
      <p:sp>
        <p:nvSpPr>
          <p:cNvPr id="395" name="PlaceHolder 1"/>
          <p:cNvSpPr>
            <a:spLocks noGrp="1"/>
          </p:cNvSpPr>
          <p:nvPr>
            <p:ph type="subTitle"/>
          </p:nvPr>
        </p:nvSpPr>
        <p:spPr>
          <a:xfrm>
            <a:off x="2133360" y="2819520"/>
            <a:ext cx="6559560" cy="1752480"/>
          </a:xfrm>
          <a:prstGeom prst="rect">
            <a:avLst/>
          </a:prstGeom>
          <a:noFill/>
          <a:ln w="0">
            <a:noFill/>
          </a:ln>
        </p:spPr>
        <p:txBody>
          <a:bodyPr lIns="45720" rIns="24696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Rockwell"/>
              </a:rPr>
              <a:t>Oct. 14</a:t>
            </a:r>
            <a:endParaRPr b="0" lang="en-US" sz="6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6" name="Title 1" descr=""/>
          <p:cNvPicPr/>
          <p:nvPr/>
        </p:nvPicPr>
        <p:blipFill>
          <a:blip r:embed="rId2"/>
          <a:stretch/>
        </p:blipFill>
        <p:spPr>
          <a:xfrm>
            <a:off x="450720" y="249120"/>
            <a:ext cx="8541000" cy="1165320"/>
          </a:xfrm>
          <a:prstGeom prst="rect">
            <a:avLst/>
          </a:prstGeom>
          <a:ln w="0">
            <a:noFill/>
          </a:ln>
        </p:spPr>
      </p:pic>
      <p:sp>
        <p:nvSpPr>
          <p:cNvPr id="397"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DOL</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h. 14 question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h. 15, do journal response</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Read Ch. 16</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Watch some of the movie</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8" name="Title 1" descr=""/>
          <p:cNvPicPr/>
          <p:nvPr/>
        </p:nvPicPr>
        <p:blipFill>
          <a:blip r:embed="rId2"/>
          <a:stretch/>
        </p:blipFill>
        <p:spPr>
          <a:xfrm>
            <a:off x="450720" y="249120"/>
            <a:ext cx="8541000" cy="1165320"/>
          </a:xfrm>
          <a:prstGeom prst="rect">
            <a:avLst/>
          </a:prstGeom>
          <a:ln w="0">
            <a:noFill/>
          </a:ln>
        </p:spPr>
      </p:pic>
      <p:sp>
        <p:nvSpPr>
          <p:cNvPr id="399"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Its true that anybody whose had Ms Anderson give her or him a literture assinement could of been confused about the amount of pages to read.</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trength:Frail::grace:_______</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peak:Mispronounce::write:_______</a:t>
            </a: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0" name="Title 1" descr=""/>
          <p:cNvPicPr/>
          <p:nvPr/>
        </p:nvPicPr>
        <p:blipFill>
          <a:blip r:embed="rId2"/>
          <a:stretch/>
        </p:blipFill>
        <p:spPr>
          <a:xfrm>
            <a:off x="450720" y="249120"/>
            <a:ext cx="8541000" cy="1165320"/>
          </a:xfrm>
          <a:prstGeom prst="rect">
            <a:avLst/>
          </a:prstGeom>
          <a:ln w="0">
            <a:noFill/>
          </a:ln>
        </p:spPr>
      </p:pic>
      <p:sp>
        <p:nvSpPr>
          <p:cNvPr id="401"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rchie and Leon seem to have a lot of the same character traits. List several ways in which they are the same.</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2" name="Title 1" descr=""/>
          <p:cNvPicPr/>
          <p:nvPr/>
        </p:nvPicPr>
        <p:blipFill>
          <a:blip r:embed="rId2"/>
          <a:stretch/>
        </p:blipFill>
        <p:spPr>
          <a:xfrm>
            <a:off x="-6480" y="249120"/>
            <a:ext cx="8491680" cy="1158840"/>
          </a:xfrm>
          <a:prstGeom prst="rect">
            <a:avLst/>
          </a:prstGeom>
          <a:ln w="0">
            <a:noFill/>
          </a:ln>
        </p:spPr>
      </p:pic>
      <p:sp>
        <p:nvSpPr>
          <p:cNvPr id="403" name="Rectangle 3"/>
          <p:cNvSpPr/>
          <p:nvPr/>
        </p:nvSpPr>
        <p:spPr>
          <a:xfrm>
            <a:off x="457200" y="1523880"/>
            <a:ext cx="82296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Archie thinks that the world is made up of two kinds of people: those who are victims and those who victimize. Assuming Archie is right, what kind of person do you think you are? Explain your answer, supporting it with at least two details from your life.</a:t>
            </a:r>
            <a:endParaRPr b="0" lang="en-US" sz="3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h. 16</a:t>
            </a:r>
            <a:endParaRPr b="0" lang="en-US" sz="4600" spc="-1" strike="noStrike">
              <a:solidFill>
                <a:srgbClr val="e7eacb"/>
              </a:solidFill>
              <a:latin typeface="Rockwell"/>
            </a:endParaRPr>
          </a:p>
        </p:txBody>
      </p:sp>
      <p:sp>
        <p:nvSpPr>
          <p:cNvPr id="40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roughout Caroni and Brother Leon’s conversation, Cormier lets u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know what Caroni is thinking. Write a paragraph’s worth of thoughts that</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might be running through Leon’s head during their meeting. What is he trying to accomplish?</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Title 1" descr=""/>
          <p:cNvPicPr/>
          <p:nvPr/>
        </p:nvPicPr>
        <p:blipFill>
          <a:blip r:embed="rId2"/>
          <a:stretch/>
        </p:blipFill>
        <p:spPr>
          <a:xfrm>
            <a:off x="450720" y="249120"/>
            <a:ext cx="8541000" cy="1165320"/>
          </a:xfrm>
          <a:prstGeom prst="rect">
            <a:avLst/>
          </a:prstGeom>
          <a:ln w="0">
            <a:noFill/>
          </a:ln>
        </p:spPr>
      </p:pic>
      <p:sp>
        <p:nvSpPr>
          <p:cNvPr id="407"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Read ch. 17 and 18 for tomorrow</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23:14:32Z</dcterms:created>
  <dc:creator>litchfield</dc:creator>
  <dc:description/>
  <dc:language>en-US</dc:language>
  <cp:lastModifiedBy>VMS</cp:lastModifiedBy>
  <dcterms:modified xsi:type="dcterms:W3CDTF">2009-10-14T13:34:56Z</dcterms:modified>
  <cp:revision>3</cp:revision>
  <dc:subject/>
  <dc:title>English</dc:title>
</cp:coreProperties>
</file>